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3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2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A1E-8B58-4E1E-9AAE-7E4A5E13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34A-E588-4F36-A838-D7DA4B1C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56A-A30E-4656-B33F-31F98B10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159-0227-4DE8-BFE3-C044CE55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6439-8CE7-492A-A430-4CE90E06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05D9-2140-41F9-9E50-E917B456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DD05-FC68-46F2-A291-BC6BB2B6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A910-7082-4A07-9064-F4216D23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0F8D-B9C5-4FBB-9DA2-831CC728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6345-14EF-4F48-A066-D6588D5A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4110-C454-4C40-B98C-1B517A0F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6810-3A78-4396-8327-63573380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904F-C357-49B0-9026-3667EABE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6E35-31FA-4747-885C-CFA65BC9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1222-194C-45B3-8F3A-6F1F7445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7E11-BD28-4B22-B0C5-215C6AC8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3B72-4536-4FD3-9E46-D7035011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FE3-BFD0-490E-935B-F609E738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7037-CACF-4905-BBEB-D9EE958F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9D6-40E6-4E9A-8859-E26B4CE3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D15A-8F3F-4014-B253-DFD07B63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227-481B-493D-A40A-06ADD1E3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93B9-FEE1-4364-A36D-3F2D4E39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E230-ED81-4183-9674-A92FA35F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322A-ED97-44DA-885B-0BA38ED2CE46}" type="slidenum">
              <a:rPr b="0" lang="en-US" sz="1400" spc="-1" strike="noStrike">
                <a:solidFill>
                  <a:srgbClr val="ffff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9CA5-8C43-4EDF-B00F-22CEE7AD99F6}" type="slidenum">
              <a:rPr b="0" lang="en-US" sz="1400" spc="-1" strike="noStrike">
                <a:solidFill>
                  <a:srgbClr val="ffff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ct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ct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ct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ct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Verdana"/>
              </a:rPr>
              <a:t>Properties of Real  Numbers</a:t>
            </a:r>
            <a:endParaRPr b="0" lang="en-US" sz="4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Algebra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2743200"/>
          <a:ext cx="7391520" cy="14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743200"/>
                    <a:ext cx="739152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Commutative Property of Multiplica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57200" y="3124080"/>
          <a:ext cx="6658200" cy="118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7200" y="3124080"/>
                    <a:ext cx="665820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ssociative Property of Multiplica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09480" y="2666880"/>
          <a:ext cx="8113680" cy="16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666880"/>
                    <a:ext cx="811368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Commutative Property of Multiplica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52480" y="3048120"/>
          <a:ext cx="5578560" cy="141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3048120"/>
                    <a:ext cx="557856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ddi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nvers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80880" y="2895480"/>
          <a:ext cx="8458200" cy="137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895480"/>
                    <a:ext cx="845820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ssociative Property of Addi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90720" y="2590920"/>
          <a:ext cx="7385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590920"/>
                    <a:ext cx="7385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932200" y="3282840"/>
          <a:ext cx="3219480" cy="9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2200" y="3282840"/>
                    <a:ext cx="321948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Reflexive 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143000" y="2743200"/>
          <a:ext cx="7023240" cy="14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743200"/>
                    <a:ext cx="702324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Commutative Property of Addi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22640" y="2666880"/>
          <a:ext cx="4886280" cy="16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2640" y="2666880"/>
                    <a:ext cx="488628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Multiplica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denti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027160" y="3282840"/>
          <a:ext cx="5029200" cy="9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27160" y="3282840"/>
                    <a:ext cx="50292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ddi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nvers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93840" y="2614680"/>
          <a:ext cx="8461080" cy="221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2614680"/>
                    <a:ext cx="846108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Transitiv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Commutative Property of Addi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655720" y="2417760"/>
          <a:ext cx="3770640" cy="267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55720" y="2417760"/>
                    <a:ext cx="377064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Multiplica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nvers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357200" y="3124080"/>
          <a:ext cx="6658200" cy="118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7200" y="3124080"/>
                    <a:ext cx="665820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ssociative Property of Multiplica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31800" y="2943360"/>
          <a:ext cx="6269040" cy="110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1800" y="2943360"/>
                    <a:ext cx="6269040" cy="11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ddi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denti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970360" y="3282840"/>
          <a:ext cx="3141360" cy="9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0360" y="3282840"/>
                    <a:ext cx="314136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Reflexive 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33520" y="3124080"/>
          <a:ext cx="8305560" cy="118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124080"/>
                    <a:ext cx="830556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ssociative Property of Addi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3200400"/>
          <a:ext cx="8332920" cy="104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200400"/>
                    <a:ext cx="833292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87520" y="3200400"/>
          <a:ext cx="8072280" cy="104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3200400"/>
                    <a:ext cx="80722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Symmetric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727280" y="3135240"/>
          <a:ext cx="5792760" cy="117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27280" y="3135240"/>
                    <a:ext cx="579276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Distribu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38360" y="2417760"/>
          <a:ext cx="4006800" cy="267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38360" y="2417760"/>
                    <a:ext cx="400680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Multiplica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nvers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25520" y="2614680"/>
          <a:ext cx="8396280" cy="221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5520" y="2614680"/>
                    <a:ext cx="839628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Transitiv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6400" y="3135240"/>
          <a:ext cx="7094520" cy="117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6400" y="3135240"/>
                    <a:ext cx="709452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Distribu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Symmetric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130480" y="2666880"/>
          <a:ext cx="5070600" cy="16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0480" y="2666880"/>
                    <a:ext cx="507060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Multiplica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denti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084400" y="2943360"/>
          <a:ext cx="5162400" cy="110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4400" y="2943360"/>
                    <a:ext cx="5162400" cy="11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ddi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denti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3:09:32Z</dcterms:created>
  <dc:creator>Parkland High School</dc:creator>
  <dc:description/>
  <dc:language>en-US</dc:language>
  <cp:lastModifiedBy>Parkland High School</cp:lastModifiedBy>
  <dcterms:modified xsi:type="dcterms:W3CDTF">2012-09-10T18:35:41Z</dcterms:modified>
  <cp:revision>6</cp:revision>
  <dc:subject/>
  <dc:title>Properties of Real  Numbers</dc:title>
</cp:coreProperties>
</file>